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D9D-0F24-4502-85F6-ADEABDA6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3F3-EC87-4C3B-8030-8B892C3D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4CC-4D62-4617-A69F-1B8C306F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8D0-CD77-4171-AC10-7D9D0AF0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930-7436-4F8A-8F11-93B54E39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491-89A3-4A96-B229-591F7ACC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52C-0FA4-47A3-BD50-7B0838D4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99D-FCFB-4D2E-8456-56CFC918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007-2B3E-445F-A352-92FD491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598-920B-432C-8BCB-C1C31B4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076-8E0A-45FE-A7BD-FD8B38E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90F-EEEA-4546-A879-F6803C65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65A-A887-4FA6-B237-F4F9E0BD6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127" t="10420" r="12500" b="12502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562" t="10420" r="11721" b="125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344" t="10420" r="11721" b="13540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562" t="10420" r="59378" b="38544"/>
          <a:stretch/>
        </p:blipFill>
        <p:spPr>
          <a:xfrm>
            <a:off x="1066680" y="358920"/>
            <a:ext cx="662940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9:12:59Z</dcterms:created>
  <dc:creator>nbdoe</dc:creator>
  <dc:description/>
  <dc:language>en-US</dc:language>
  <cp:lastModifiedBy>nbdoe</cp:lastModifiedBy>
  <dcterms:modified xsi:type="dcterms:W3CDTF">2007-02-19T19:32:40Z</dcterms:modified>
  <cp:revision>2</cp:revision>
  <dc:subject/>
  <dc:title>Slide 1</dc:title>
</cp:coreProperties>
</file>